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4F7-41E6-496A-8C3B-4FB4201F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6C8-801E-4BA3-A069-BE34BDBB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51C-EE21-4D63-861F-1803197E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7DB-13D6-474D-B125-5875E8AD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5BB-638F-4792-BB5E-049C8779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33F-AD07-4218-BC64-3F5289DF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6F3-2CC8-4D21-97C3-532A50A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01A-23F7-4822-A028-E3678C1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FF1-15D8-417F-A4B4-A8E8575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9A4-3EFA-48E4-AB7C-3B577565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202-C2F6-464B-BD3C-EFC56DF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672-1D8B-42E5-8443-D81EDEF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1138-F35D-470B-849B-119631BC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6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quations by Multiplying and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05740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w   =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  =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743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erty of equality (Opposi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40388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     =   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800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ica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    - 2 v   =  -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2         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  =  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990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819520"/>
            <a:ext cx="5943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tal of 288 pens are boxed by the dozen. How many boxes are nee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B   =  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=     2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724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7621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828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ica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14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 =   -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2600" y="844560"/>
            <a:ext cx="9169200" cy="517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2057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 =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98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3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133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 =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12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 =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-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 = 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5029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600 =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5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4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13:58Z</dcterms:created>
  <dc:creator>BRSD</dc:creator>
  <dc:description/>
  <dc:language>en-US</dc:language>
  <cp:lastModifiedBy>grahams</cp:lastModifiedBy>
  <dcterms:modified xsi:type="dcterms:W3CDTF">2011-11-10T17:28:50Z</dcterms:modified>
  <cp:revision>10</cp:revision>
  <dc:subject/>
  <dc:title>Problem of the Day!!!</dc:title>
</cp:coreProperties>
</file>